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861-F32E-4469-9FCD-5D169AC4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559-B7CF-43E4-B73D-F5F056AD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680-D487-408C-879B-72395BEF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052-23D3-4B2D-8A11-7CB58418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1D5-D4C9-4EFB-B2E8-6101450C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57A-9256-4348-A331-540DC65D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43C-6F6D-44B5-86A6-9186C1E7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C15-111E-4E69-893A-8431C30E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4178-8F9B-4EFE-B1E9-65EFF1C0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578-5485-4B05-9AAB-C3FA9FC3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FCC-9F07-47FB-A4A4-281114AD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EFEC-9AF8-4417-99C5-C63BB1A6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656A-2D1A-443A-8B2D-595FFC7EF2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uladeeconomia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www.auladeeconomia.com/" TargetMode="External"/><Relationship Id="rId2" Type="http://schemas.openxmlformats.org/officeDocument/2006/relationships/hyperlink" Target="http://www.auladeeconomia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99"/>
                </a:solidFill>
                <a:latin typeface="Arial"/>
              </a:rPr>
              <a:t>Líneas de Espera:</a:t>
            </a:r>
            <a:br>
              <a:rPr sz="4800"/>
            </a:br>
            <a:r>
              <a:rPr b="1" lang="es-ES" sz="4800" spc="-1" strike="noStrike">
                <a:solidFill>
                  <a:srgbClr val="000099"/>
                </a:solidFill>
                <a:latin typeface="Arial"/>
              </a:rPr>
              <a:t>Teoría de Colas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38862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urso Métodos Cuantit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f. Lic. Gabriel Le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go-auladeeconom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41680" y="6051600"/>
            <a:ext cx="47023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modelo básic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>
            <a:off x="7236000" y="3789360"/>
            <a:ext cx="1730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37440" y="327024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le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763640" y="2565360"/>
            <a:ext cx="5616720" cy="259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042000" y="2028960"/>
            <a:ext cx="28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stema de co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908000" y="3068640"/>
            <a:ext cx="144000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5292720" y="3068640"/>
            <a:ext cx="194472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stalación del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3328920" y="3129480"/>
            <a:ext cx="174780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cip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la 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108000" y="378936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348000" y="3789360"/>
            <a:ext cx="1944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7325280" y="327024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Estructuras típicas de sistemas de colas: una línea, un servidor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6873840" y="3789360"/>
            <a:ext cx="1730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7640" y="327024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le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2193840" y="2565360"/>
            <a:ext cx="4824360" cy="259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3187800" y="2028960"/>
            <a:ext cx="28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stema de co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2338560" y="3068640"/>
            <a:ext cx="143964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5218200" y="3068640"/>
            <a:ext cx="165564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9"/>
          <p:cNvSpPr/>
          <p:nvPr/>
        </p:nvSpPr>
        <p:spPr>
          <a:xfrm>
            <a:off x="538200" y="378936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0"/>
          <p:cNvSpPr/>
          <p:nvPr/>
        </p:nvSpPr>
        <p:spPr>
          <a:xfrm>
            <a:off x="3778200" y="3789360"/>
            <a:ext cx="144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6963480" y="327024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99"/>
                </a:solidFill>
                <a:latin typeface="Arial"/>
              </a:rPr>
              <a:t>Estructuras típicas de sistemas de colas: una línea, múltiples servidores</a:t>
            </a: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6877080" y="3011400"/>
            <a:ext cx="1730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67640" y="350028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le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193840" y="2435400"/>
            <a:ext cx="4824360" cy="331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187800" y="1916280"/>
            <a:ext cx="28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stema de co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338560" y="3298680"/>
            <a:ext cx="143964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5218200" y="2651040"/>
            <a:ext cx="1655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538200" y="401940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3778200" y="4091040"/>
            <a:ext cx="144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7022160" y="250668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5221440" y="3732120"/>
            <a:ext cx="1655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5219640" y="4883040"/>
            <a:ext cx="1656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>
            <a:off x="4427640" y="3011400"/>
            <a:ext cx="793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4427640" y="5172120"/>
            <a:ext cx="793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 flipV="1">
            <a:off x="4427640" y="3011400"/>
            <a:ext cx="0" cy="216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6877080" y="5172120"/>
            <a:ext cx="1730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6877080" y="4091040"/>
            <a:ext cx="1730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7022160" y="35877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7022160" y="465300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Estructuras típicas de colas: varias líneas, múltiples servidore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6877080" y="3011400"/>
            <a:ext cx="1730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97800" y="350028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le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050920" y="2435400"/>
            <a:ext cx="4967280" cy="331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187800" y="1916280"/>
            <a:ext cx="28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stema de co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987640" y="2709720"/>
            <a:ext cx="144000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218200" y="2651040"/>
            <a:ext cx="1655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4427640" y="4076640"/>
            <a:ext cx="792000" cy="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7022160" y="250668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221440" y="3732120"/>
            <a:ext cx="1655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5219640" y="4883040"/>
            <a:ext cx="1656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5"/>
          <p:cNvSpPr/>
          <p:nvPr/>
        </p:nvSpPr>
        <p:spPr>
          <a:xfrm>
            <a:off x="4427640" y="3011400"/>
            <a:ext cx="793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4427640" y="5172120"/>
            <a:ext cx="793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6877080" y="5172120"/>
            <a:ext cx="1730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6877080" y="4091040"/>
            <a:ext cx="1730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7022160" y="35877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7022160" y="465300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>
            <a:off x="395280" y="407664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>
            <a:off x="2195640" y="2997360"/>
            <a:ext cx="793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2195640" y="5157720"/>
            <a:ext cx="793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 flipV="1">
            <a:off x="2195640" y="2997000"/>
            <a:ext cx="0" cy="21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2987640" y="3789360"/>
            <a:ext cx="1440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2987640" y="4869000"/>
            <a:ext cx="1440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Estructuras típicas de colas: una línea, servidores secuenciale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5435640" y="602280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621800" y="22068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le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274920" y="227808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205440" y="1773360"/>
            <a:ext cx="28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stema de co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4137120" y="2422440"/>
            <a:ext cx="93816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849840" y="3502080"/>
            <a:ext cx="15858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330200" y="2781360"/>
            <a:ext cx="2810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4643280" y="307008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6014160" y="551808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4643280" y="414972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4138560" y="4583160"/>
            <a:ext cx="93816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6"/>
          <p:cNvSpPr/>
          <p:nvPr/>
        </p:nvSpPr>
        <p:spPr>
          <a:xfrm>
            <a:off x="4643280" y="523080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3851280" y="5662440"/>
            <a:ext cx="158580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Costos de un sistema de cola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sto de espera: Es el costo para el cliente al es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epresenta el costo de oportunidad del tiempo perd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 sistema con un bajo costo de espera es una fuente importante de competitiv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Costos de un sistema de cola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sto de servicio: Es el costo de operación del servicio brind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 más fácil de estim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objetivo de un sistema de colas es encontrar el sistema del costo total míni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Las llegada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tiempo que transcurre entre dos llegadas sucesivas en el sistema de colas se llama tiempo entre lleg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tiempo entre llegadas tiende a ser muy var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número esperado de llegadas por unidad de tiempo se llama tasa media de llegadas (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Las llegada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tiempo esperado entre llegadas es 1/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or ejemplo, si la tasa media de llegadas es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20 clientes por h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tonces el tiempo esperado entre llegadas es 1/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1/20 = 0.05 horas o 3 minu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Las llegada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demás es necesario estimar la distribución de probabilidad de los tiempos entre lleg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Generalmente se supone una distribución exponen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to depende del comportamiento de las lleg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Las colas…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s colas son frecuentes en nuestra vida cotidian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 un ba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 un restaurante de comidas ráp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l matricular en la univers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os autos en un lava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Sistemas de colas: Las llegadas – Distribución exponencial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147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forma algebraica de la distribución exponencial es: 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representa una cantidad expresada en de tiempo unidades de tiempo (horas, minutos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1187280" y="3205080"/>
                <a:ext cx="7417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iemp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rvicio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Sistemas de colas: Las llegadas – Distribución exponencial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"/>
          <p:cNvGrpSpPr/>
          <p:nvPr/>
        </p:nvGrpSpPr>
        <p:grpSpPr>
          <a:xfrm>
            <a:off x="1439640" y="1955880"/>
            <a:ext cx="6442920" cy="4282920"/>
            <a:chOff x="1439640" y="1955880"/>
            <a:chExt cx="6442920" cy="4282920"/>
          </a:xfrm>
        </p:grpSpPr>
        <p:sp>
          <p:nvSpPr>
            <p:cNvPr id="172" name="Line 4"/>
            <p:cNvSpPr/>
            <p:nvPr/>
          </p:nvSpPr>
          <p:spPr>
            <a:xfrm>
              <a:off x="1703520" y="2322360"/>
              <a:ext cx="0" cy="352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5"/>
            <p:cNvSpPr/>
            <p:nvPr/>
          </p:nvSpPr>
          <p:spPr>
            <a:xfrm>
              <a:off x="1703520" y="5851440"/>
              <a:ext cx="568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rc 7"/>
            <p:cNvSpPr/>
            <p:nvPr/>
          </p:nvSpPr>
          <p:spPr>
            <a:xfrm flipH="1" flipV="1">
              <a:off x="1764360" y="2637000"/>
              <a:ext cx="5121000" cy="2998800"/>
            </a:xfrm>
            <a:custGeom>
              <a:avLst/>
              <a:gdLst/>
              <a:ahLst/>
              <a:rect l="l" t="t" r="r" b="b"/>
              <a:pathLst>
                <a:path fill="none" w="21600" h="2174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49"/>
                    <a:pt x="21599" y="21698"/>
                    <a:pt x="21599" y="21748"/>
                  </a:cubicBezTo>
                </a:path>
                <a:path stroke="0" w="21600" h="2174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49"/>
                    <a:pt x="21599" y="21698"/>
                    <a:pt x="21599" y="2174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"/>
            <p:cNvSpPr/>
            <p:nvPr/>
          </p:nvSpPr>
          <p:spPr>
            <a:xfrm flipH="1" flipV="1">
              <a:off x="3131640" y="4723920"/>
              <a:ext cx="11160" cy="1127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2714040" y="585144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6941520" y="584532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1"/>
            <p:cNvSpPr/>
            <p:nvPr/>
          </p:nvSpPr>
          <p:spPr>
            <a:xfrm>
              <a:off x="1468800" y="5870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2"/>
            <p:cNvSpPr/>
            <p:nvPr/>
          </p:nvSpPr>
          <p:spPr>
            <a:xfrm>
              <a:off x="1439640" y="19558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Sistemas de colas: Las llegadas – Distribución exponencial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distribución exponencial supone una mayor probabilidad para tiempos entre llegadas peque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 general, se considera que las llegadas son aleato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última llegada no influye en la probabilidad de llegada de la sigu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Sistemas de colas: Las llegadas - Distribución  de Poisson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 una distribución discreta empleada con mucha frecuencia para describir el patrón de las llegadas a un sistema de co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ara tasas medias de llegadas pequeñas es asimétrica y se hace más simétrica y se aproxima a la binomial para tasas de llegadas al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Sistemas de colas: Las llegadas - Distribución  de Poisson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u forma algebraica 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P(k)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: probabilidad de k llegadas por unidad de tiem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: tasa media de lleg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" sz="3600" spc="-1" strike="noStrike">
                <a:solidFill>
                  <a:srgbClr val="000000"/>
                </a:solidFill>
                <a:latin typeface="Times New Roman"/>
              </a:rPr>
              <a:t>2,7182818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3274920" y="2157480"/>
                <a:ext cx="273708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Sistemas de colas: Las llegadas - Distribución  de Poisson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Line 25"/>
          <p:cNvSpPr/>
          <p:nvPr/>
        </p:nvSpPr>
        <p:spPr>
          <a:xfrm flipH="1">
            <a:off x="1692000" y="2322360"/>
            <a:ext cx="11160" cy="355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1703520" y="5877000"/>
            <a:ext cx="56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5364000" y="58705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legadas por unidad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468800" y="58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1440000" y="1955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rc 33"/>
          <p:cNvSpPr/>
          <p:nvPr/>
        </p:nvSpPr>
        <p:spPr>
          <a:xfrm flipH="1">
            <a:off x="1907280" y="3068640"/>
            <a:ext cx="1800360" cy="2808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rc 34"/>
          <p:cNvSpPr/>
          <p:nvPr/>
        </p:nvSpPr>
        <p:spPr>
          <a:xfrm>
            <a:off x="3708360" y="3071880"/>
            <a:ext cx="684360" cy="1581120"/>
          </a:xfrm>
          <a:custGeom>
            <a:avLst/>
            <a:gdLst/>
            <a:ahLst/>
            <a:rect l="l" t="t" r="r" b="b"/>
            <a:pathLst>
              <a:path fill="none" w="16582" h="21600">
                <a:moveTo>
                  <a:pt x="-1" y="0"/>
                </a:moveTo>
                <a:cubicBezTo>
                  <a:pt x="6404" y="0"/>
                  <a:pt x="12478" y="2841"/>
                  <a:pt x="16582" y="7758"/>
                </a:cubicBezTo>
              </a:path>
              <a:path stroke="0" w="16582" h="21600">
                <a:moveTo>
                  <a:pt x="-1" y="0"/>
                </a:moveTo>
                <a:cubicBezTo>
                  <a:pt x="6404" y="0"/>
                  <a:pt x="12478" y="2841"/>
                  <a:pt x="16582" y="775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35"/>
          <p:cNvSpPr/>
          <p:nvPr/>
        </p:nvSpPr>
        <p:spPr>
          <a:xfrm flipH="1" flipV="1" rot="720600">
            <a:off x="4316760" y="2631240"/>
            <a:ext cx="3176640" cy="2822760"/>
          </a:xfrm>
          <a:custGeom>
            <a:avLst/>
            <a:gdLst/>
            <a:ahLst/>
            <a:rect l="l" t="t" r="r" b="b"/>
            <a:pathLst>
              <a:path fill="none" w="19400" h="21600">
                <a:moveTo>
                  <a:pt x="-1" y="2"/>
                </a:moveTo>
                <a:cubicBezTo>
                  <a:pt x="111" y="0"/>
                  <a:pt x="222" y="-1"/>
                  <a:pt x="334" y="0"/>
                </a:cubicBezTo>
                <a:cubicBezTo>
                  <a:pt x="8316" y="0"/>
                  <a:pt x="15648" y="4402"/>
                  <a:pt x="19400" y="11448"/>
                </a:cubicBezTo>
              </a:path>
              <a:path stroke="0" w="19400" h="21600">
                <a:moveTo>
                  <a:pt x="-1" y="2"/>
                </a:moveTo>
                <a:cubicBezTo>
                  <a:pt x="111" y="0"/>
                  <a:pt x="222" y="-1"/>
                  <a:pt x="334" y="0"/>
                </a:cubicBezTo>
                <a:cubicBezTo>
                  <a:pt x="8316" y="0"/>
                  <a:pt x="15648" y="4402"/>
                  <a:pt x="19400" y="11448"/>
                </a:cubicBezTo>
                <a:lnTo>
                  <a:pt x="334" y="21600"/>
                </a:lnTo>
                <a:lnTo>
                  <a:pt x="-1" y="2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4"/>
          <p:cNvSpPr/>
          <p:nvPr/>
        </p:nvSpPr>
        <p:spPr>
          <a:xfrm>
            <a:off x="2124000" y="4653000"/>
            <a:ext cx="432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5"/>
          <p:cNvSpPr/>
          <p:nvPr/>
        </p:nvSpPr>
        <p:spPr>
          <a:xfrm>
            <a:off x="2556000" y="3789360"/>
            <a:ext cx="431640" cy="20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6"/>
          <p:cNvSpPr/>
          <p:nvPr/>
        </p:nvSpPr>
        <p:spPr>
          <a:xfrm>
            <a:off x="2987640" y="3357720"/>
            <a:ext cx="432000" cy="25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7"/>
          <p:cNvSpPr/>
          <p:nvPr/>
        </p:nvSpPr>
        <p:spPr>
          <a:xfrm>
            <a:off x="3419640" y="3141720"/>
            <a:ext cx="4316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8"/>
          <p:cNvSpPr/>
          <p:nvPr/>
        </p:nvSpPr>
        <p:spPr>
          <a:xfrm>
            <a:off x="3851280" y="3500280"/>
            <a:ext cx="43344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9"/>
          <p:cNvSpPr/>
          <p:nvPr/>
        </p:nvSpPr>
        <p:spPr>
          <a:xfrm>
            <a:off x="4284720" y="4292640"/>
            <a:ext cx="43164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0"/>
          <p:cNvSpPr/>
          <p:nvPr/>
        </p:nvSpPr>
        <p:spPr>
          <a:xfrm>
            <a:off x="4716360" y="4724280"/>
            <a:ext cx="432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1"/>
          <p:cNvSpPr/>
          <p:nvPr/>
        </p:nvSpPr>
        <p:spPr>
          <a:xfrm>
            <a:off x="5148360" y="5084640"/>
            <a:ext cx="43164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2"/>
          <p:cNvSpPr/>
          <p:nvPr/>
        </p:nvSpPr>
        <p:spPr>
          <a:xfrm>
            <a:off x="5580000" y="5373720"/>
            <a:ext cx="432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3"/>
          <p:cNvSpPr/>
          <p:nvPr/>
        </p:nvSpPr>
        <p:spPr>
          <a:xfrm>
            <a:off x="6012000" y="5516640"/>
            <a:ext cx="43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4"/>
          <p:cNvSpPr/>
          <p:nvPr/>
        </p:nvSpPr>
        <p:spPr>
          <a:xfrm>
            <a:off x="6443640" y="5661000"/>
            <a:ext cx="43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La col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número de clientes en la cola es el número de clientes que esperan el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número de clientes en el sistema es el número de clientes que esperan en la cola más el número de clientes que actualmente reciben el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La col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capacidad de la cola es el número máximo de clientes que pueden estar en la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Generalmente se supone que la cola es infin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unque también la cola puede ser fin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La col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disciplina de la cola se refiere al orden en que se seleccionan los miembros de la cola para comenzar el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más común es PEPS: primero en llegar, primero en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uede darse: selección aleatoria, prioridades, UEPS, entre otr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El servici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servicio puede ser brindado por un servidor o por servidores múlt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tiempo de servicio varía de cliente a cl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tiempo esperado de servicio depende de la tasa media de servicio (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Las colas…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 general, a nadie le gusta es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uando la paciencia llega a su límite, la gente se va a otro l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in embargo, un servicio muy rápido tendría un costo muy elev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 necesario encontrar un balance adecu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El servici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tiempo esperado de servicio equivale a 1/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or ejemplo, si la tasa media de servicio es de 25 clientes por h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tonces el tiempo esperado de servicio es 1/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1/25 = 0.04 horas, o 2.4 minu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El servici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 necesario seleccionar una distribución de probabilidad para los tiempos de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ay dos distribuciones que representarían puntos extrem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distribución exponencial (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=medi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iempos de servicio constantes (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=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El servici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a distribución intermedia es la distribución Erl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ta distribución posee un parámetro de forma 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que determina su desviación estánd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2843280" y="4508640"/>
                <a:ext cx="3895560" cy="17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medi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El servici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es-E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1, entonces la distribución Erlang es igual a la exponen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es-E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∞, entonces la distribución Erlang es igual a la distribución degenerada con tiempos const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La forma de la distribución Erlang varía de acuerdo con </a:t>
            </a:r>
            <a:r>
              <a:rPr b="0" i="1" lang="es-E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El servici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1703520" y="2322360"/>
            <a:ext cx="0" cy="35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1703520" y="5851440"/>
            <a:ext cx="56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rc 7"/>
          <p:cNvSpPr/>
          <p:nvPr/>
        </p:nvSpPr>
        <p:spPr>
          <a:xfrm flipH="1" flipV="1">
            <a:off x="1764360" y="2637000"/>
            <a:ext cx="5121000" cy="2998800"/>
          </a:xfrm>
          <a:custGeom>
            <a:avLst/>
            <a:gdLst/>
            <a:ahLst/>
            <a:rect l="l" t="t" r="r" b="b"/>
            <a:pathLst>
              <a:path fill="none" w="21600" h="2174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649"/>
                  <a:pt x="21599" y="21698"/>
                  <a:pt x="21599" y="21748"/>
                </a:cubicBezTo>
              </a:path>
              <a:path stroke="0" w="21600" h="2174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649"/>
                  <a:pt x="21599" y="21698"/>
                  <a:pt x="21599" y="2174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 flipH="1" flipV="1">
            <a:off x="4128840" y="2491920"/>
            <a:ext cx="11160" cy="335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710880" y="5851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6941520" y="58453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1468800" y="58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1439640" y="19558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rc 13"/>
          <p:cNvSpPr/>
          <p:nvPr/>
        </p:nvSpPr>
        <p:spPr>
          <a:xfrm flipH="1">
            <a:off x="1692360" y="3933720"/>
            <a:ext cx="1079280" cy="1943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rc 14"/>
          <p:cNvSpPr/>
          <p:nvPr/>
        </p:nvSpPr>
        <p:spPr>
          <a:xfrm>
            <a:off x="2771640" y="3933720"/>
            <a:ext cx="360360" cy="287280"/>
          </a:xfrm>
          <a:custGeom>
            <a:avLst/>
            <a:gdLst/>
            <a:ahLst/>
            <a:rect l="l" t="t" r="r" b="b"/>
            <a:pathLst>
              <a:path fill="none" w="17442" h="21600">
                <a:moveTo>
                  <a:pt x="-1" y="0"/>
                </a:moveTo>
                <a:cubicBezTo>
                  <a:pt x="6894" y="0"/>
                  <a:pt x="13375" y="3291"/>
                  <a:pt x="17442" y="8858"/>
                </a:cubicBezTo>
              </a:path>
              <a:path stroke="0" w="17442" h="21600">
                <a:moveTo>
                  <a:pt x="-1" y="0"/>
                </a:moveTo>
                <a:cubicBezTo>
                  <a:pt x="6894" y="0"/>
                  <a:pt x="13375" y="3291"/>
                  <a:pt x="17442" y="885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rc 15"/>
          <p:cNvSpPr/>
          <p:nvPr/>
        </p:nvSpPr>
        <p:spPr>
          <a:xfrm flipH="1" flipV="1" rot="720600">
            <a:off x="3060000" y="4149720"/>
            <a:ext cx="4824360" cy="793440"/>
          </a:xfrm>
          <a:custGeom>
            <a:avLst/>
            <a:gdLst/>
            <a:ahLst/>
            <a:rect l="l" t="t" r="r" b="b"/>
            <a:pathLst>
              <a:path fill="none" w="19115" h="21600">
                <a:moveTo>
                  <a:pt x="-1" y="2"/>
                </a:moveTo>
                <a:cubicBezTo>
                  <a:pt x="111" y="0"/>
                  <a:pt x="222" y="-1"/>
                  <a:pt x="334" y="0"/>
                </a:cubicBezTo>
                <a:cubicBezTo>
                  <a:pt x="8104" y="0"/>
                  <a:pt x="15276" y="4173"/>
                  <a:pt x="19114" y="10930"/>
                </a:cubicBezTo>
              </a:path>
              <a:path stroke="0" w="19115" h="21600">
                <a:moveTo>
                  <a:pt x="-1" y="2"/>
                </a:moveTo>
                <a:cubicBezTo>
                  <a:pt x="111" y="0"/>
                  <a:pt x="222" y="-1"/>
                  <a:pt x="334" y="0"/>
                </a:cubicBezTo>
                <a:cubicBezTo>
                  <a:pt x="8104" y="0"/>
                  <a:pt x="15276" y="4173"/>
                  <a:pt x="19114" y="10930"/>
                </a:cubicBezTo>
                <a:lnTo>
                  <a:pt x="334" y="21600"/>
                </a:lnTo>
                <a:lnTo>
                  <a:pt x="-1" y="2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rc 18"/>
          <p:cNvSpPr/>
          <p:nvPr/>
        </p:nvSpPr>
        <p:spPr>
          <a:xfrm>
            <a:off x="3419640" y="3143160"/>
            <a:ext cx="936360" cy="2446560"/>
          </a:xfrm>
          <a:custGeom>
            <a:avLst/>
            <a:gdLst/>
            <a:ahLst/>
            <a:rect l="l" t="t" r="r" b="b"/>
            <a:pathLst>
              <a:path fill="none" w="17705" h="21600">
                <a:moveTo>
                  <a:pt x="-1" y="0"/>
                </a:moveTo>
                <a:cubicBezTo>
                  <a:pt x="7054" y="0"/>
                  <a:pt x="13664" y="3444"/>
                  <a:pt x="17705" y="9226"/>
                </a:cubicBezTo>
              </a:path>
              <a:path stroke="0" w="17705" h="21600">
                <a:moveTo>
                  <a:pt x="-1" y="0"/>
                </a:moveTo>
                <a:cubicBezTo>
                  <a:pt x="7054" y="0"/>
                  <a:pt x="13664" y="3444"/>
                  <a:pt x="17705" y="922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rc 19"/>
          <p:cNvSpPr/>
          <p:nvPr/>
        </p:nvSpPr>
        <p:spPr>
          <a:xfrm flipH="1">
            <a:off x="2916360" y="3147840"/>
            <a:ext cx="574560" cy="1360800"/>
          </a:xfrm>
          <a:custGeom>
            <a:avLst/>
            <a:gdLst/>
            <a:ahLst/>
            <a:rect l="l" t="t" r="r" b="b"/>
            <a:pathLst>
              <a:path fill="none" w="21600" h="21426">
                <a:moveTo>
                  <a:pt x="2737" y="0"/>
                </a:moveTo>
                <a:cubicBezTo>
                  <a:pt x="13521" y="1378"/>
                  <a:pt x="21600" y="10555"/>
                  <a:pt x="21600" y="21426"/>
                </a:cubicBezTo>
              </a:path>
              <a:path stroke="0" w="21600" h="21426">
                <a:moveTo>
                  <a:pt x="2737" y="0"/>
                </a:moveTo>
                <a:cubicBezTo>
                  <a:pt x="13521" y="1378"/>
                  <a:pt x="21600" y="10555"/>
                  <a:pt x="21600" y="21426"/>
                </a:cubicBezTo>
                <a:lnTo>
                  <a:pt x="0" y="21426"/>
                </a:lnTo>
                <a:lnTo>
                  <a:pt x="2737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rc 20"/>
          <p:cNvSpPr/>
          <p:nvPr/>
        </p:nvSpPr>
        <p:spPr>
          <a:xfrm flipV="1">
            <a:off x="1835280" y="4508640"/>
            <a:ext cx="1081080" cy="1296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rc 21"/>
          <p:cNvSpPr/>
          <p:nvPr/>
        </p:nvSpPr>
        <p:spPr>
          <a:xfrm flipH="1" flipV="1">
            <a:off x="4355280" y="2636280"/>
            <a:ext cx="2151000" cy="3168360"/>
          </a:xfrm>
          <a:custGeom>
            <a:avLst/>
            <a:gdLst/>
            <a:ahLst/>
            <a:rect l="l" t="t" r="r" b="b"/>
            <a:pathLst>
              <a:path fill="none" w="18970" h="21597">
                <a:moveTo>
                  <a:pt x="382" y="0"/>
                </a:moveTo>
                <a:cubicBezTo>
                  <a:pt x="8154" y="138"/>
                  <a:pt x="15252" y="4440"/>
                  <a:pt x="18969" y="11267"/>
                </a:cubicBezTo>
              </a:path>
              <a:path stroke="0" w="18970" h="21597">
                <a:moveTo>
                  <a:pt x="382" y="0"/>
                </a:moveTo>
                <a:cubicBezTo>
                  <a:pt x="8154" y="138"/>
                  <a:pt x="15252" y="4440"/>
                  <a:pt x="18969" y="11267"/>
                </a:cubicBezTo>
                <a:lnTo>
                  <a:pt x="0" y="21597"/>
                </a:lnTo>
                <a:lnTo>
                  <a:pt x="382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3737160" y="216864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3"/>
          <p:cNvSpPr/>
          <p:nvPr/>
        </p:nvSpPr>
        <p:spPr>
          <a:xfrm>
            <a:off x="3132000" y="494172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6372360" y="479736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5"/>
          <p:cNvSpPr/>
          <p:nvPr/>
        </p:nvSpPr>
        <p:spPr>
          <a:xfrm>
            <a:off x="4356000" y="393372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Sistemas de colas:</a:t>
            </a:r>
            <a:br>
              <a:rPr sz="4000"/>
            </a:b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Distribución Erlang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1600200"/>
          <a:ext cx="8002440" cy="4781520"/>
        </p:xfrm>
        <a:graphic>
          <a:graphicData uri="http://schemas.openxmlformats.org/drawingml/2006/table">
            <a:tbl>
              <a:tblPr/>
              <a:tblGrid>
                <a:gridCol w="4002120"/>
                <a:gridCol w="400032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iación estánd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ang, </a:t>
                      </a:r>
                      <a:r>
                        <a:rPr b="1" i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ang, </a:t>
                      </a:r>
                      <a:r>
                        <a:rPr b="1" i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ang, </a:t>
                      </a:r>
                      <a:r>
                        <a:rPr b="1" i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 </a:t>
                      </a:r>
                      <a:r>
                        <a:rPr b="0" i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ang, </a:t>
                      </a:r>
                      <a:r>
                        <a:rPr b="1" i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ang, </a:t>
                      </a:r>
                      <a:r>
                        <a:rPr b="1" i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4 </a:t>
                      </a:r>
                      <a:r>
                        <a:rPr b="0" i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ang, cualquier </a:t>
                      </a:r>
                      <a:r>
                        <a:rPr b="1" i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60" name="Object 41"/>
              <p:cNvSpPr txBox="1"/>
              <p:nvPr/>
            </p:nvSpPr>
            <p:spPr>
              <a:xfrm>
                <a:off x="5580000" y="3429000"/>
                <a:ext cx="1795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di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49"/>
              <p:cNvSpPr txBox="1"/>
              <p:nvPr/>
            </p:nvSpPr>
            <p:spPr>
              <a:xfrm>
                <a:off x="5543640" y="4653000"/>
                <a:ext cx="1765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di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53"/>
              <p:cNvSpPr txBox="1"/>
              <p:nvPr/>
            </p:nvSpPr>
            <p:spPr>
              <a:xfrm>
                <a:off x="5513400" y="5805360"/>
                <a:ext cx="1795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</m:e>
                        </m:rad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di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Sistemas de colas: Etiquetas para distintos modelos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otación de Kendall: </a:t>
            </a: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: Distribución de tiempos entre lleg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: Distribución de tiempos de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: distribución exponen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: distribución degener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s-ES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: distribución Erl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: Número de servi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Estado del sistema de cola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 principio el sistema está en un estado ini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 supone que el sistema de colas llega a una condición de estado estable (nivel normal de oper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xisten otras condiciones anormales (horas pico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o que interesa es el estado es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Desempeño del sistema de colas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ara evaluar el desempeño se busca conocer dos factores principa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número de clientes que esperan en la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tiempo que los clientes esperan en la cola y en el sist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Medidas del desempeño del sistema de colas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úmero esperado de clientes en la cola </a:t>
            </a:r>
            <a:r>
              <a:rPr b="0" i="1" lang="es-E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" sz="36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úmero esperado de clientes en el sistema </a:t>
            </a:r>
            <a:r>
              <a:rPr b="0" i="1" lang="es-E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" sz="3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iempo esperado de espera en la cola </a:t>
            </a:r>
            <a:r>
              <a:rPr b="0" i="1" lang="es-E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" sz="36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iempo esperado de espera en el sistema </a:t>
            </a:r>
            <a:r>
              <a:rPr b="0" i="1" lang="es-E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" sz="3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Teoría de cola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a cola es una línea de esp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teoría de colas es un conjunto de modelos matemáticos que describen sistemas de líneas de espera particul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objetivo es encontrar el estado estable del sistema y determinar una capacidad de servicio apropi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Medidas del desempeño del sistema de colas: fórmulas generales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4"/>
              <p:cNvSpPr txBox="1"/>
              <p:nvPr/>
            </p:nvSpPr>
            <p:spPr>
              <a:xfrm>
                <a:off x="3046320" y="1484280"/>
                <a:ext cx="3110040" cy="522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Medidas del desempeño del sistema de colas: ejemplo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uponga una estación de gasolina a la cual llegan en promedio 45 clientes por h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 tiene capacidad para atender en promedio a 60 clientes por h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 sabe que los clientes esperan en promedio 3 minutos en la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Medidas del desempeño del sistema de colas: ejemplo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tasa media de llegadas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es 45 clientes por hora o 45/60 = 0.75 clientes por min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tasa media de servicio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es 60 clientes por hora o 60/60 = 1 cliente por min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Medidas del desempeño del sistema de colas: ejemplo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971640" y="1981080"/>
                <a:ext cx="7056360" cy="389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ientes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ient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Medidas del desempeño del sistema de colas: ejercicio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uponga un restaurant de comidas rápidas al cual llegan en promedio 100 clientes por h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 tiene capacidad para atender en promedio a 150 clientes por h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 sabe que los clientes esperan en promedio 2 minutos en la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alcule las medidas de desempeño del sist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Probabilidades como medidas del desempeño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Benefici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miten evaluar escen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mite establecer me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ot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: probabilidad de tener 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clientes en el sist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1" i="1" lang="es-ES" sz="3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 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r>
              <a:rPr b="0" lang="es-E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: probabilidad de que un cliente no espere en el sistema más de 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r>
              <a:rPr b="0" lang="es-E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h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Factor de utilización del sistem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ada la tasa media de llegadas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y la tasa media de servicio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, se define el factor de utilización del sistema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Generalmente se requiere que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u fórmula, con un servidor y con 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servidores, respectivamente, 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979640" y="4941720"/>
                <a:ext cx="50403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s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Factor de utilización del sistema - ejemplo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n base en los datos del ejemplo anterior,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0.75,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factor de utilización del sistema si se mantuviera un servidor 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0.75/1 = 0.75 = 7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n dos servidores (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2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0.75/(2*1) = 0.75/2 = 37,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Modelos de una cola y un servido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1: Un servidor con llegadas de Poisson y tiempos de servicio expon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1: Un servidor con tiempos entre llegadas exponenciales y una distribución general de tiempos de serv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1: Un servidor con tiempos entre llegadas exponenciales y una distribución degenerada de tiempos de serv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1: Un servidor con tiempos entre llegadas exponenciales y una distribución Erlang de tiempos de serv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M/1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4"/>
              <p:cNvSpPr txBox="1"/>
              <p:nvPr/>
            </p:nvSpPr>
            <p:spPr>
              <a:xfrm>
                <a:off x="0" y="1484280"/>
                <a:ext cx="9144000" cy="511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ρ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Teoría de cola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xisten muchos sistemas de colas disti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lgunos modelos son muy espe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tros se ajustan a modelos más gener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 estudiarán ahora algunos modelos comu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tros se pueden tratar a través de la simul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M/1: ejempl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 lavacar puede atender un auto cada 5 minutos y la tasa media de llegadas es de 9 autos por h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btenga las medidas de desempeño de acuerdo con el modelo M/M/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demás la probabilidad de tener 0 clientes en el sistema, la probabilidad de tener una cola de más de 3 clientes y la probabilidad de esperar más de 30 min. en la cola y en el sist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M/1: ejempl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468360" y="873000"/>
                <a:ext cx="8351640" cy="587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iente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ientes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&gt;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&gt;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ρ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M/1: ejercici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un supermercado llegan en promedio 80 clientes por hora que son atendidos entre sus 5 caj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a caja puede atender en promedio a un cliente cada 3 min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tenga las medidas de desempeño de acuerdo con el modelo M/M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emás la probabilidad de tener 2 clientes en el sistema, la probabilidad de tener una cola de más de 4 clientes y la probabilidad de esperar más de 10 min. en la c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G/1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971640" y="1486080"/>
                <a:ext cx="7345440" cy="48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G/1: ejempl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 lavacar puede atender un auto cada 5 min. y la tasa media de llegadas es de 9 autos/hora,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2 m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btenga las medidas de desempeño de acuerdo con el modelo M/G/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demás la probabilidad de tener 0 clientes en el sistema y la probabilidad de que un cliente tenga que esperar por el servic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G/1: ejempl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682560" y="1484280"/>
                <a:ext cx="7561440" cy="493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ientes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ientes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G/1: ejercici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un supermercado llegan en promedio 80 clientes por hora que son atendidos entre sus 5 caj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a caja puede atender en promedio a un cliente cada 3 minutos. Suponga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5 m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tenga las medidas de desempeño de acuerdo con el modelo M/G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emás la probabilidad de tener 0 clientes en el sistema y la probabilidad de que un cliente tenga que esperar por el serv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D/1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1403280" y="1773360"/>
                <a:ext cx="6193080" cy="39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D/1: ejempl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 lavacar puede atender un auto cada 5 m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tasa media de llegadas es de 9 autos/ho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btenga las medidas de desempeño de acuerdo con el modelo M/D/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D/1: ejempl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900000" y="1587600"/>
                <a:ext cx="7704360" cy="47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ientes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ientes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modelo básic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 sistema de colas puede dividirse en dos componentes principa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instalación del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os clientes o llegadas vienen en forma individual para recibir el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D/1: ejercici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 un supermercado llegan en promedio 80 clientes por hora que son atendidos entre sus 5 caj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ada caja puede atender en promedio a un cliente cada 3 minuto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btenga las medidas de desempeño de acuerdo con el modelo M/D/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E</a:t>
            </a:r>
            <a:r>
              <a:rPr b="0" lang="es-ES" sz="44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/1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826920" y="1593720"/>
                <a:ext cx="7274160" cy="44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E</a:t>
            </a:r>
            <a:r>
              <a:rPr b="0" lang="es-ES" sz="44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/1: ejempl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 lavacar puede atender un auto cada 5 m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tasa media de llegadas es de 9 autos/hora.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ponga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3.5 min (aprox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btenga las medidas de desempeño de acuerdo con el modelo M/E</a:t>
            </a:r>
            <a:r>
              <a:rPr b="0" i="1" lang="es-ES" sz="3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/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E</a:t>
            </a:r>
            <a:r>
              <a:rPr b="0" lang="es-ES" sz="44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/1: ejempl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828720" y="1717560"/>
                <a:ext cx="8064360" cy="457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ientes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7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ientes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0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E</a:t>
            </a:r>
            <a:r>
              <a:rPr b="0" i="1" lang="es-ES" sz="44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/1: ejercici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 un supermercado llegan en promedio 80 clientes por hora que son atendidos entre sus 5 caj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ada caja puede atender en promedio a un cliente cada 3 minutos. Suponga k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btenga las medidas de desempeño de acuerdo con el modelo M/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E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/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Modelos de un servidor: Ejercicio: complete el cuadro ejemplo lavaca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50920" y="1600200"/>
          <a:ext cx="8642160" cy="49975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s-E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s-E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s-E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s-E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/M/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/G/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/D/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/E</a:t>
                      </a:r>
                      <a:r>
                        <a:rPr b="0" i="1" lang="es-E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s de varios servidore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s: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rvidores con llegadas de Poisson y tiempos de servicio expon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s: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rvidores con tiempos entre llegadas exponenciales y una distribución degenerada de tiempos de serv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s: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rvidores con tiempos entre llegadas exponenciales y una distribución Erlang de tiempos de serv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/M/s, una línea de esper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0" y="1052640"/>
                <a:ext cx="9144000" cy="55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sμ</m:t>
                                    </m:r>
                                  </m:num>
                                  <m:den>
                                    <m:r>
                                      <m:t xml:space="preserve">sμ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λ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λμ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  <m:r>
                              <m:t xml:space="preserve">(</m:t>
                            </m:r>
                            <m:r>
                              <m:t xml:space="preserve">s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k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!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k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sμ</m:t>
                                </m:r>
                              </m:num>
                              <m:den>
                                <m:r>
                                  <m:t xml:space="preserve">sμ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/M/s, una línea de esper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1476360" y="1284120"/>
                <a:ext cx="6048360" cy="516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ρ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Análisis económico de líneas de esper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4"/>
          <p:cNvSpPr/>
          <p:nvPr/>
        </p:nvSpPr>
        <p:spPr>
          <a:xfrm>
            <a:off x="1506600" y="2043000"/>
            <a:ext cx="0" cy="390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1506600" y="5945040"/>
            <a:ext cx="5316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"/>
          <p:cNvSpPr/>
          <p:nvPr/>
        </p:nvSpPr>
        <p:spPr>
          <a:xfrm flipV="1">
            <a:off x="1506600" y="4481280"/>
            <a:ext cx="4919760" cy="146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rc 7"/>
          <p:cNvSpPr/>
          <p:nvPr/>
        </p:nvSpPr>
        <p:spPr>
          <a:xfrm rot="10800000">
            <a:off x="1829880" y="2774520"/>
            <a:ext cx="4435560" cy="2764080"/>
          </a:xfrm>
          <a:custGeom>
            <a:avLst/>
            <a:gdLst/>
            <a:ahLst/>
            <a:rect l="l" t="t" r="r" b="b"/>
            <a:pathLst>
              <a:path fill="none" w="21392" h="21600">
                <a:moveTo>
                  <a:pt x="-1" y="0"/>
                </a:moveTo>
                <a:cubicBezTo>
                  <a:pt x="10775" y="0"/>
                  <a:pt x="19902" y="7941"/>
                  <a:pt x="21392" y="18612"/>
                </a:cubicBezTo>
              </a:path>
              <a:path stroke="0" w="21392" h="21600">
                <a:moveTo>
                  <a:pt x="-1" y="0"/>
                </a:moveTo>
                <a:cubicBezTo>
                  <a:pt x="10775" y="0"/>
                  <a:pt x="19902" y="7941"/>
                  <a:pt x="21392" y="1861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rc 8"/>
          <p:cNvSpPr/>
          <p:nvPr/>
        </p:nvSpPr>
        <p:spPr>
          <a:xfrm rot="9461400">
            <a:off x="2069640" y="1628280"/>
            <a:ext cx="4233960" cy="2318040"/>
          </a:xfrm>
          <a:custGeom>
            <a:avLst/>
            <a:gdLst/>
            <a:ahLst/>
            <a:rect l="l" t="t" r="r" b="b"/>
            <a:pathLst>
              <a:path fill="none" w="21365" h="21579">
                <a:moveTo>
                  <a:pt x="944" y="-1"/>
                </a:moveTo>
                <a:cubicBezTo>
                  <a:pt x="11279" y="451"/>
                  <a:pt x="19843" y="8168"/>
                  <a:pt x="21365" y="18401"/>
                </a:cubicBezTo>
              </a:path>
              <a:path stroke="0" w="21365" h="21579">
                <a:moveTo>
                  <a:pt x="944" y="-1"/>
                </a:moveTo>
                <a:cubicBezTo>
                  <a:pt x="11279" y="451"/>
                  <a:pt x="19843" y="8168"/>
                  <a:pt x="21365" y="18401"/>
                </a:cubicBezTo>
                <a:lnTo>
                  <a:pt x="0" y="21579"/>
                </a:lnTo>
                <a:lnTo>
                  <a:pt x="944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9"/>
          <p:cNvSpPr/>
          <p:nvPr/>
        </p:nvSpPr>
        <p:spPr>
          <a:xfrm>
            <a:off x="4046400" y="3587760"/>
            <a:ext cx="0" cy="2357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973080" y="1666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6297840" y="590076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200760" y="5869080"/>
            <a:ext cx="16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 óp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6197760" y="529272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de es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6318360" y="421164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del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6353280" y="289080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modelo básic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os clientes o llegadas pueden s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so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utomóv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áquinas que requieren repa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oc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tre muchos otros tipos de artícu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99"/>
                </a:solidFill>
                <a:latin typeface="Arial"/>
              </a:rPr>
              <a:t>Si desea más información visite </a:t>
            </a:r>
            <a:r>
              <a:rPr b="0" lang="es-CR" sz="40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www.auladeeconomia.com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Le invitamos a leer nuestros artículos y matricular nuestros cur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logo-auladeeconom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41680" y="6051600"/>
            <a:ext cx="47023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modelo básic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i cuando el cliente llega no hay nadie en la cola, pasa de una vez a recibir el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i no, se une a la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 importante señalar que la cola no incluye a quien está recibiendo el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modelo básic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s llegadas van a la instalación del servicio de acuerdo con la disciplina de la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Generalmente ésta es 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primero en llegar, primero en ser serv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o pueden haber otras reglas o colas con prior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01:02:36Z</dcterms:created>
  <dc:creator>Gabriel Leandro</dc:creator>
  <dc:description/>
  <dc:language>en-US</dc:language>
  <cp:lastModifiedBy>sena</cp:lastModifiedBy>
  <dcterms:modified xsi:type="dcterms:W3CDTF">2010-11-08T22:24:12Z</dcterms:modified>
  <cp:revision>83</cp:revision>
  <dc:subject/>
  <dc:title>Líneas de Espera: Teoría de Colas</dc:title>
</cp:coreProperties>
</file>